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0665-994F-4D9D-A156-44F32577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20AA7-2EA7-408D-A1EF-63C5E7A3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24F4C-F1AC-40B6-987C-66E91748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E3358-45A2-4232-914A-C834899F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6B4F-56F3-422E-9398-D53E2B93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CF934-C113-43DF-A124-053758C2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AB612-12A9-4411-8C4B-E672C7C1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A47F5-B601-4FF5-A31D-F5C7E06E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518AF-91A1-4852-9F52-D86A1C40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3916-B4B3-45E9-9998-0630E0F1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BCC76-ECD0-46D7-8CDA-6D9C61A7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C818F-BC64-43EE-B1EB-F9F4CECC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7E9CA-5905-4165-9AA9-9A83B412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160B8-8197-4C9C-873D-695D21AB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548F5-B6A5-4BD9-9925-8D2D5E8C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1E163-DC4E-4111-BE98-7CEBD9B7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99E75-F90E-4C78-B25B-8A93CEBB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DB735-C0E5-4514-BA87-CB3FF2F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37C5-98AE-4486-938D-8A66FB7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67191-8A76-4896-8B09-8451803A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C2CDE-0ADE-4E81-BE70-A62EDE53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46D73-4EF1-4C07-8368-4139CD77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38F82-E4E0-4450-B668-293E6B4D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A7597-9CD9-4363-A973-5AD416BE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F79B5-4915-4CCA-9F6D-2934E61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26D5A-F6E6-4B3E-A104-0CE7E26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DF66-6D00-4D10-9BF8-D1BE2901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606F8-EA3B-4E2D-BAD4-4AAE66E8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967CB-263B-4586-9509-2E8D14C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1EDC1-3BF4-4C39-995A-A802EDE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3DEA9-45AE-4912-B1C8-ACB3BF10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60E50-8871-4931-AA97-FC757B3F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C7B2C-4260-422A-B9B9-A7701240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F248C-8222-4ED5-8687-7D5EF238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EEF80-BFD5-48BE-BC84-FFFF1542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25338-9835-4A22-93DD-56CC1B8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C8E0B-18F6-414B-A820-75747563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C3FFD-1C13-4138-9716-8AFF7D2F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7483E-383F-4169-AAC0-3A57A679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C8785-B336-4425-AEF3-BD5E3AE6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F027B-3A1B-49BC-A07E-66CF3C0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9F293-B13E-4116-A8FD-42476ABA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661E1-64B6-4FFA-8C19-1DA597B1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FB19A-0DE3-44DD-BD55-0B60AD3E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059BE-F087-42EB-B982-B3E593DF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87939-B054-48D2-BD2D-AC1DF1AD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D74FE-B874-48D3-AC2A-3B935FC8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6B9E5-AB7E-4B77-8031-447EEE16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6597B-26B7-4F2D-9D1D-988560E0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94E3A-0D7D-4483-B922-CB101AA7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39B51-70CE-42F2-844A-7E9B1692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E53D5-B9C2-4D7B-B005-A9F36FC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2BD05-0A4F-469F-BF7C-41F9D04D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D1023-0ECF-4FCB-95BF-F2AD0C05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3BBD9-19F3-468D-B2F9-3B4304ED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4E3C9-1629-4D7C-91BC-4C6B1ABB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F34B1-0EC2-4BBA-A2F7-62B288E8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94887-A870-4CDB-96CD-9BC8D62D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F9056-2A1E-4E90-BCE1-579FC57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5E017-47B9-4771-A105-7A6E13C5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D103E-838E-452C-B48E-ACF76105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707F5-E433-43C5-91CE-CE55A918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F7E5E-D433-4818-8F46-CFDCF755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CD19B-15B6-46A0-9629-AE8B944A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2AE10-91CB-4E93-9C33-4632454A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B8C5F-ACBF-41DE-B229-BABCD914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5B7D5-DB74-47AA-B159-876915F4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20D09-087D-4188-A6BA-56EFD99E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C8404-40B1-4F1D-A68F-684929B3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F1F-A184-4F76-9399-EC849DD6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21F-B5AC-4390-A273-288FCFBB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1DE-8C70-40E8-9B66-C53A81DF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9A7-058A-44DE-8363-4478F2D0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C5C-FAE1-4C4C-A03D-866413CB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2BD-8734-4C57-ADDF-DEE754AB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CF7-446A-47FB-97CA-B69B36F2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9B3-0189-43A5-937A-FD824118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31F-82D8-4191-ABE5-76F4AA8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3E8-2C48-4672-84F3-2CD2EE0B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77E-90D8-4ECB-A031-7C088B65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4B2-93B2-4F0C-B1D1-27314AEF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7D5C-17EA-45BB-A68E-4648702E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F672-09D5-46B7-8FAB-7576B10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989A-876B-490C-9E30-EA642ED8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B6F6-F2A4-4E54-ADB1-1F957FA8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14CD-076C-4391-90BD-E91C1F3F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2EAC-A6EC-4211-AC4B-BC760CE1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000F-518E-4158-95C2-DCB75D3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902F-A21A-46D7-BFA6-55D92B91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DEAE-444A-40AD-B733-655376E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DE63-ED24-4FCC-B719-87D63F59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9C8F-0D37-4B2B-ADA8-C65FC783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33DC-7282-4A5A-ADA3-1E52980F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6F7B-772C-41A8-BD3C-8D1552F8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9F86-0205-445A-92C9-7FE0B131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8FA6-CD90-497C-8564-DA56AABD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88182-DBA6-4E0A-A750-7058C989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0D4C-2963-4CF9-B7FB-5BA44AEB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BB13-ADD0-447F-B39B-4963E4CF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5C81-F75E-4AAD-B549-A8FC3F41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0197-0EA1-405D-AAEC-191A8493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4747-3510-4D46-A249-6B9307D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0D0F-CE05-45EB-9A81-2DD312F5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7CF4-D580-4D9C-86B6-EB5CA2E9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CDA24-2C00-4521-9567-F90C9DD7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BD60-4D11-4801-9DDB-6A4A77FD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7FBE-24B6-4D5B-97A4-6B959DF2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C039-61B2-4778-95DF-24CC594D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45A0-7A8E-4B00-9A5F-27EA18C5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D022-ED35-4DA6-ABEF-E59DC02D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6EECD-C817-4D99-B693-4DC1DFB1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3C63D-B713-45D7-A870-B6772E7D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C334D-7FD5-4429-AEC3-195C693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77DFB-59D7-4E31-9366-5CB92A2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437E-3F0A-4AD3-807E-C9BBF93A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C36B-B8B7-4BAA-B253-E9197166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0A76-B165-42A9-AE40-4FFD019A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0D2C-D48B-458C-82E4-91100809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AF447-11DF-49D9-94B5-21880B5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4014F-D525-4635-9B54-B3C8CF06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F7EB5-3FA1-4944-BCDE-F71BF7E9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5C8C1-6156-4422-898F-12C45F3E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DB24-9AAA-4216-A800-69949AD6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1A024-B23D-473F-A15F-847D3F0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0D9A-F09A-4341-932B-5175E064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9855-8409-423A-8EBF-BE143826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50810-C0D5-4DA5-B271-FCF7762D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C358-D6BF-423C-9479-6458A402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892B-4A04-4C81-8EDD-40E3CE3F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95CE-ACDC-483B-BB80-FB21EFAE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EF0EE-C0B9-4B5F-A3B4-0B9FDE38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BF97D-903B-4708-BDFE-8901F04A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848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387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B365-197A-4618-8C15-0515F96463AD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431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A13E-57A2-4122-BA91-A0933B5B80C0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475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458A-9E1F-43F9-9D69-01E68ECC4EC8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519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CF49-176A-4443-9EFF-2CFA43C683B1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563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FF1F-D2A1-4BE4-AE41-2F65CD754ACD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2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44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848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1625-C67E-4226-9744-2C6BF922A5BC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CPET_logo_RGBcolour.jpg"/>
          <p:cNvPicPr/>
          <p:nvPr/>
        </p:nvPicPr>
        <p:blipFill>
          <a:blip r:embed="rId4"/>
          <a:stretch/>
        </p:blipFill>
        <p:spPr>
          <a:xfrm>
            <a:off x="6084720" y="4672080"/>
            <a:ext cx="2519640" cy="701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848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167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1042-4669-446D-AA1B-DB95F40EA400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211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628E-4DE3-4CB0-BE79-4167D48A00FF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255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8C0-EEA2-49B9-84F3-4392106EAE0F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299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F54F-CD67-4540-9D04-91EE0A496922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91F9-8D39-42D3-A198-2419A0B5DB53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84872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c00000"/>
                </a:solidFill>
                <a:latin typeface="Calibri"/>
              </a:rPr>
              <a:t>vStream</a:t>
            </a:r>
            <a:r>
              <a:rPr b="0" lang="en-AU" sz="6000" spc="-1" strike="noStrike">
                <a:solidFill>
                  <a:srgbClr val="c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en-AU" sz="4800" spc="-1" strike="noStrike">
                <a:solidFill>
                  <a:srgbClr val="1f497d"/>
                </a:solidFill>
                <a:latin typeface="Calibri"/>
              </a:rPr>
              <a:t>ACPET National NBN </a:t>
            </a:r>
            <a:br>
              <a:rPr sz="4800"/>
            </a:br>
            <a:r>
              <a:rPr b="0" lang="en-AU" sz="4800" spc="-1" strike="noStrike">
                <a:solidFill>
                  <a:srgbClr val="1f497d"/>
                </a:solidFill>
                <a:latin typeface="Calibri"/>
              </a:rPr>
              <a:t>E-Learning Program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68360" y="4724280"/>
            <a:ext cx="8136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f497d"/>
                </a:solidFill>
                <a:latin typeface="Calibri"/>
              </a:rPr>
              <a:t>Sherrill Lister, ACPET NBN E-learning Project Offic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f497d"/>
                </a:solidFill>
                <a:latin typeface="Calibri"/>
              </a:rPr>
              <a:t>Melanie Worrall, ACPET NBN E-learning Facilit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8487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vStream 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Program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Participating RTOs and NBN rollout areas inclu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National coverage of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Industry areas cover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Project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vStream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55640" y="134100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Experiment and develop e-learning, e-assessment, online RPL tools, platforms and system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Use common freeware, cost-effective tools and cloud application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High definition video streaming and communication, using mobile technologies, including iPad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Telepresence for tutors, trainers, assessors, learner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Develop an RTO NBN-enabled capability framework for application by RTOs nationally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Participating R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55280" y="1341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c00000"/>
                </a:solidFill>
                <a:latin typeface="Calibri"/>
              </a:rPr>
              <a:t>5 RTOs across 5 States targeting 12 NBN rollout sites:</a:t>
            </a:r>
            <a:endParaRPr b="0" lang="en-US" sz="29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WA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Kingston Training and Employment 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Australasian Academy of Cosmetic Dermal Science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NBN Roll out sites: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Geraldton, Mandurah, South Perth, 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Victoria Park, Meadow Springs 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NSW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BCA National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NBN Roll out sites: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Armidale, Sydney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NT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BCA National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 NBN Roll out site: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Darwin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SA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Community Services Training and Development Centre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NBN Roll out sites: 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Willunga, Aldinga Beach, Seaford 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Vic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JobCo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NBN Roll out site: 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Brunswick 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Map of vStream cove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Content Placeholder 4" descr="australiaMap.png"/>
          <p:cNvPicPr/>
          <p:nvPr/>
        </p:nvPicPr>
        <p:blipFill>
          <a:blip r:embed="rId1"/>
          <a:stretch/>
        </p:blipFill>
        <p:spPr>
          <a:xfrm>
            <a:off x="468360" y="1268280"/>
            <a:ext cx="4621320" cy="432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5" name=""/>
          <p:cNvGraphicFramePr/>
          <p:nvPr/>
        </p:nvGraphicFramePr>
        <p:xfrm>
          <a:off x="5435640" y="1476360"/>
          <a:ext cx="3529080" cy="3728880"/>
        </p:xfrm>
        <a:graphic>
          <a:graphicData uri="http://schemas.openxmlformats.org/drawingml/2006/table">
            <a:tbl>
              <a:tblPr/>
              <a:tblGrid>
                <a:gridCol w="654120"/>
                <a:gridCol w="353880"/>
                <a:gridCol w="2521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A National (NS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A National (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ty Services Training and Development Centre (CSTD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b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gston Training and Employ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alasian Academy of Cosmetic Dermal S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Flowchart: Connector 9"/>
          <p:cNvSpPr/>
          <p:nvPr/>
        </p:nvSpPr>
        <p:spPr>
          <a:xfrm>
            <a:off x="6300720" y="4014720"/>
            <a:ext cx="142920" cy="14292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lowchart: Connector 10"/>
          <p:cNvSpPr/>
          <p:nvPr/>
        </p:nvSpPr>
        <p:spPr>
          <a:xfrm>
            <a:off x="6300720" y="1557360"/>
            <a:ext cx="142920" cy="14292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lowchart: Connector 11"/>
          <p:cNvSpPr/>
          <p:nvPr/>
        </p:nvSpPr>
        <p:spPr>
          <a:xfrm>
            <a:off x="6300720" y="2070000"/>
            <a:ext cx="142920" cy="144720"/>
          </a:xfrm>
          <a:prstGeom prst="flowChartConnector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owchart: Connector 12"/>
          <p:cNvSpPr/>
          <p:nvPr/>
        </p:nvSpPr>
        <p:spPr>
          <a:xfrm>
            <a:off x="6300720" y="2592360"/>
            <a:ext cx="142920" cy="142920"/>
          </a:xfrm>
          <a:prstGeom prst="flowChartConnector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lowchart: Connector 13"/>
          <p:cNvSpPr/>
          <p:nvPr/>
        </p:nvSpPr>
        <p:spPr>
          <a:xfrm>
            <a:off x="6300720" y="3492360"/>
            <a:ext cx="142920" cy="142920"/>
          </a:xfrm>
          <a:prstGeom prst="flowChartConnector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lowchart: Connector 14"/>
          <p:cNvSpPr/>
          <p:nvPr/>
        </p:nvSpPr>
        <p:spPr>
          <a:xfrm>
            <a:off x="4572000" y="4221000"/>
            <a:ext cx="144360" cy="14472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lowchart: Connector 15"/>
          <p:cNvSpPr/>
          <p:nvPr/>
        </p:nvSpPr>
        <p:spPr>
          <a:xfrm>
            <a:off x="4716360" y="3860640"/>
            <a:ext cx="142920" cy="14472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lowchart: Connector 16"/>
          <p:cNvSpPr/>
          <p:nvPr/>
        </p:nvSpPr>
        <p:spPr>
          <a:xfrm>
            <a:off x="2411280" y="1484280"/>
            <a:ext cx="144720" cy="144360"/>
          </a:xfrm>
          <a:prstGeom prst="flowChartConnector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lowchart: Connector 17"/>
          <p:cNvSpPr/>
          <p:nvPr/>
        </p:nvSpPr>
        <p:spPr>
          <a:xfrm>
            <a:off x="3348000" y="4365720"/>
            <a:ext cx="144360" cy="142920"/>
          </a:xfrm>
          <a:prstGeom prst="flowChartConnector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owchart: Connector 18"/>
          <p:cNvSpPr/>
          <p:nvPr/>
        </p:nvSpPr>
        <p:spPr>
          <a:xfrm>
            <a:off x="3276720" y="4292640"/>
            <a:ext cx="142920" cy="144360"/>
          </a:xfrm>
          <a:prstGeom prst="flowChartConnector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owchart: Connector 19"/>
          <p:cNvSpPr/>
          <p:nvPr/>
        </p:nvSpPr>
        <p:spPr>
          <a:xfrm>
            <a:off x="3348000" y="4292640"/>
            <a:ext cx="144360" cy="144360"/>
          </a:xfrm>
          <a:prstGeom prst="flowChartConnector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lowchart: Connector 20"/>
          <p:cNvSpPr/>
          <p:nvPr/>
        </p:nvSpPr>
        <p:spPr>
          <a:xfrm>
            <a:off x="3924360" y="4724280"/>
            <a:ext cx="142920" cy="144720"/>
          </a:xfrm>
          <a:prstGeom prst="flowChartConnector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lowchart: Connector 21"/>
          <p:cNvSpPr/>
          <p:nvPr/>
        </p:nvSpPr>
        <p:spPr>
          <a:xfrm>
            <a:off x="684360" y="3645000"/>
            <a:ext cx="142560" cy="14436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lowchart: Connector 22"/>
          <p:cNvSpPr/>
          <p:nvPr/>
        </p:nvSpPr>
        <p:spPr>
          <a:xfrm>
            <a:off x="900000" y="4005360"/>
            <a:ext cx="142920" cy="14436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lowchart: Connector 23"/>
          <p:cNvSpPr/>
          <p:nvPr/>
        </p:nvSpPr>
        <p:spPr>
          <a:xfrm>
            <a:off x="900000" y="4149720"/>
            <a:ext cx="142920" cy="14292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lowchart: Connector 24"/>
          <p:cNvSpPr/>
          <p:nvPr/>
        </p:nvSpPr>
        <p:spPr>
          <a:xfrm>
            <a:off x="971640" y="4076640"/>
            <a:ext cx="144360" cy="14436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lowchart: Connector 25"/>
          <p:cNvSpPr/>
          <p:nvPr/>
        </p:nvSpPr>
        <p:spPr>
          <a:xfrm>
            <a:off x="971640" y="4005360"/>
            <a:ext cx="144360" cy="14436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Industry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755640" y="1413000"/>
            <a:ext cx="7848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Health and Beauty Practice Managemen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Business Service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Community Services – Aged Care, Home and Community Car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Financial Service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Conservation and Land Managemen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Dental Assis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Project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95280" y="1341000"/>
            <a:ext cx="874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Vstream Program meetings, action planning, communication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using Elluminate or video conferencing </a:t>
            </a:r>
            <a:r>
              <a:rPr b="0" i="1" lang="en-AU" sz="2000" spc="-1" strike="noStrike">
                <a:solidFill>
                  <a:srgbClr val="1f497d"/>
                </a:solidFill>
                <a:latin typeface="Calibri"/>
              </a:rPr>
              <a:t>(ongoing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Vstream Program Induction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Action research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Organisational readiness assessment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Action learning workshops </a:t>
            </a:r>
            <a:r>
              <a:rPr b="0" i="1" lang="en-AU" sz="2000" spc="-1" strike="noStrike">
                <a:solidFill>
                  <a:srgbClr val="1f497d"/>
                </a:solidFill>
                <a:latin typeface="Calibri"/>
              </a:rPr>
              <a:t>(fortnightly)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Progress meetings on individual action plans </a:t>
            </a:r>
            <a:r>
              <a:rPr b="0" i="1" lang="en-AU" sz="2000" spc="-1" strike="noStrike">
                <a:solidFill>
                  <a:srgbClr val="1f497d"/>
                </a:solidFill>
                <a:latin typeface="Calibri"/>
              </a:rPr>
              <a:t>(alternating fortnight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Development phase, testing and review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Facilitation and delivery of pilot programs </a:t>
            </a:r>
            <a:r>
              <a:rPr b="0" i="1" lang="en-AU" sz="2000" spc="-1" strike="noStrike">
                <a:solidFill>
                  <a:srgbClr val="1f497d"/>
                </a:solidFill>
                <a:latin typeface="Calibri"/>
              </a:rPr>
              <a:t>(at least 10 learners per RTO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Review  of Vstream pilot program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Draft and final report, dissemination strategi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vStream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755280" y="1413000"/>
            <a:ext cx="8388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Project Managers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Wendy Perry and Joy de Leo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Project Officer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Sherrill Liste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Facilitator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Melanie Worrall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ACPET Executive Officers in 5 States: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Michael Hall (NT), Joy de Leo (SA), Maria Langwell (Vic), Catherine Kearney (NSW), Trevor McCrystal (W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5 Participating RTOs in 5 States </a:t>
            </a:r>
            <a:r>
              <a:rPr b="0" i="1" lang="en-AU" sz="2400" spc="-1" strike="noStrike">
                <a:solidFill>
                  <a:srgbClr val="1f497d"/>
                </a:solidFill>
                <a:latin typeface="Calibri"/>
              </a:rPr>
              <a:t>(2 representatives each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1f497d"/>
                </a:solidFill>
                <a:latin typeface="Calibri"/>
              </a:rPr>
              <a:t>The quality sta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3" descr="ACPET_logo_RGBcolour.jpg"/>
          <p:cNvPicPr/>
          <p:nvPr/>
        </p:nvPicPr>
        <p:blipFill>
          <a:blip r:embed="rId1"/>
          <a:stretch/>
        </p:blipFill>
        <p:spPr>
          <a:xfrm>
            <a:off x="900000" y="2500200"/>
            <a:ext cx="54007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0:08:16Z</dcterms:created>
  <dc:creator>tbancroft</dc:creator>
  <dc:description/>
  <dc:language>en-US</dc:language>
  <cp:lastModifiedBy>jdeleo</cp:lastModifiedBy>
  <dcterms:modified xsi:type="dcterms:W3CDTF">2011-12-13T04:39:20Z</dcterms:modified>
  <cp:revision>35</cp:revision>
  <dc:subject/>
  <dc:title>Slide 1</dc:title>
</cp:coreProperties>
</file>